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053-29BA-4C2F-A833-78A25830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401-A7EA-4AF8-9F5E-6262ED1C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811-4724-4F3D-8494-8AAC43C8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91A-422F-4219-B9DE-03CEDE19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D94F-852B-4770-8D4D-2D7C76DD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7DE2-8E86-4EA1-BD37-C0802A8D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D44A-6C66-4236-8065-A6A719C6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ECBE-1C72-46BE-89D7-52CF2217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D386-6504-42DF-A565-529D26A5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174A-928A-4D14-B902-5B5A321A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B31A-23F4-456D-9190-799D5877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1BE-8D46-47AE-9655-516DEBCA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FB51-0B49-42BD-8AB4-99828BC5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0185-0AB4-48F3-88BD-CC427D7F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0089-CA79-4E38-8C65-83AF1892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C327-0441-442B-B14D-29F5C020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2209-D0EA-4559-9D0E-DFFAAD43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53D-BD4D-49B4-997D-950260CF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A32-903B-4F8E-B66B-584994E5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5DE-722B-4378-81F9-2BBA0C6A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9FF-6562-4628-BBF3-E9211E72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407-D79B-4541-A446-5CA83B74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B8D-2D9B-45AD-B06C-33347768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687-C65F-4CCE-91B8-251E5E11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2EB1-52DD-4BE4-9C8B-3568618BB5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4217-14FA-4619-BB3A-E1D3A7C9395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apter 14:  Lymphatic System and Immun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encapsulated Tissu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nsils—located in your posterior nasopharyn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ut Associated Lymphoid Tissue (GALT)—lies under the mucosa of the esophagus and intesti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usters of lymphoid tissue in respiratory tract and sk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ymphatic Syst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 is a clear fluid that is driven through hydrostatic pressure from the interstitial spaces into the lymphatic capilla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scular activity—major driving force of lymph through the lymphatic vessel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low of Lymp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ce lymph enters a lymphatic vessel, valves prevent lymph from flowing backward (back toward the interstitial spac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 can only move toward a collecting duct thanks to these valves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it moves through vessels, it is filtered periodically by lymph nod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ymphatic Pathway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igure 14.5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uid in interstitial spac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atic vesse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 nod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atic vesse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atic trunk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llecting Duct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clavian Vein (where it re-enters the bloodstrea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llecting Duc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ymphatic trunks join one of two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oracic du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ight lymphatic du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oracic Duc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rger and longer collecting du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eives lymph from lower limbs, abdominal regions, left upper limb, left side of head, thorax, ne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pties into the left subclavian vein near the junction of the left jugular v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ight Lymphatic Duc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llects lymph from right side of head and neck, right upper limb, right thora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pties into the right subclavian vein near the junction of the jugular v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dem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thing that interferes with the flow of lymph can cause a back-up of interstitial fluid in an area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causes swelling—aka. Ede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can happen from something (like position or turnicate) obstructing the flow of lymph or from surgical removal of lymph nod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welling due to malfunction of lymph flow=lymphede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ymph No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y in size and shape—on average are bean-shaped and approx. 2.5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ymphatic sinus—space inside the n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ymphatic sinus contains many macrophages (highly concentrated her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 located everywhere on the body except the CENTRAL NERVOUS SYSTEM (brain and spinal cor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ymph Node Physiolog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 nodes have two main function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ltering harmful particles from lymph before it returns to the bloodstre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mune surveillance by lymphocytes and macropha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o, they produce lymphocytes along w/ the red bone marrow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mmun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ility of the body to protect itself from disease causing invaders called pathog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om the Latin word “immunis”--exem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ymphocytes and Macrophag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ocytes—attack invaders that enter the lymph no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crophages--engulf and destroy foreign substances, damaged cells, and cellular debr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ym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cated posterior to the upper sternum (breast bone); upper ch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rge during infancy and childho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rinks after pub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elderly—tissue is gradually replaced by adipose (fat) and connective tissu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70 years—it is one-tenth the size that it was when a person is 10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ymus Physiolog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ymus contains immature cells called thymocyt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can be inactive.  However, when needed they can mature into T-cells (T-lymphocyte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-cells are important in immun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ymus epithelial cells also secrete hormones called thymosins, stimulate T-cells to mature as they migrate to other tissu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le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rgest lymphatic org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cated in the upper abdomen to the left of the stomach (on left s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rt of like a large lymph node except instead of inner space having lymph, it has blo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le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s two types of tissu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te pulp—like splattered islands around the space; contains many lymphocy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d pulp—Contains many red blood cells, plus lymphocytes and macropha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le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lenectomy—removal of the sple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lenitis—inflammation of the sple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mmun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Your body has two ways to defend against infection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nnate (nonspecific) defens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daptive (specific) defens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nate (Nonspecific) Defen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six basic types of innate defens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cies Resist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chanical Barri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mical Barri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v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lamm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agocyt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nate (Nonspecific) Defen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es resistance—a given organism develops a set of diseases that is unique to it but it will be resistant to other disease because the conditions in our body are not ideal for every patho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. Other animal species do not get measles, mumps, gonorrhea, syphil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chanical Barri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kin and the mucous membranes of the respiratory, digestive, urinary, and reproductive systems create mechanical barriers that prevent the entry of pathoge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barriers are a “first line of defense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mmune Syst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sts of lymphoid tissues of the body, the immune cells, and chemicals that coordinate and execute the immune fun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emical Barri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zymes in body fluids are chemicals that provide a chemical resistance, or barrier, to pathog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. Protein-splitting enzyme pepsin in the stomach; enzyme, lysozyme, in tears; salt (from sweat) on the sk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emical Barri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eron—hormone-like peptides made by lymphocytes and fibroblasts in response to cells with viral infection or tumor ce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eron—binds to receptors on the outside of healthy cell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ells synthesize proteins that block the replication of viru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eron—stimulates phagocytosis, also; helps resist infection and kill tumor ce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ev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ver—elevated body temperature\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cteria and fungii require iron as temperature ris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body temperature stimulates liver and spleen to hoard iron so it is out of the bl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slows the growth of bacteria and fungii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ev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body temperature also increases the activity of phagocy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w-grade fever is actually a healthy response by the body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medicate unless you have a high fever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flamm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lammation—tissue response to injury or infection categorized by localized redness, swelling, heat, and pai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uses the site of the problem to be “walled” off or isolated so that it cannot spre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hagocytosi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hagocytic cells includ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utrophi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ocy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cells can leave the blood by squeezing between the cells of blood vessel walls=diapede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micals from injured tissues attract these cells (chemotaxi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aptive (Specific) Defens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aptive (Specific) Defenses=Immun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our “third line of defense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 what our bodies develop in response to a particular patho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tig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 the surface of all ce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be a protein, a polysaccharide, glycoprotein, or glycolip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cognizing “Self”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fore birth, cells go around to body cells &amp; “take inventory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how your body determines which cells are “self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n as your immune system develops after birth, it recognizes any other type of cell as “foreign or non-self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cognizing “Nonself”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birth, the body really begins developing its immune syst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produces lymphocytes that go around to the cells of the body and recognize the foreign antigens as “nonself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unctions of the Immune System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mune System has 3 main function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tect the body from pathog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move dead or damaged tissue and ce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cognize and remove abnormal cells that have abnormal cell growth and development (i.e. cancer cell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ajor Histiocompatibility Complex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KA, MH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ll membrane proteins that are coded by certain ge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HC on the outside of your cells is recognized by your body’s lymphocy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ymphocyt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e the cells primarily responsible for the immune respon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types: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-lymphocytes—T-ce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-lymphocytes—B-ce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l Mediated Immun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KA, Cellular Immune Respon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-cells are primarily responsible for this immune a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cell mediated, the t-cells attach to foreign antigen cells and interact directly by cell to cell cont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l Mediated Immun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ll ingests or is infected with pathoge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athogen breaks up inside the cell and pieces of it bind to the MHC on the cell membrane. “Presents the antigen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-cells then bind to the antigen presenting ce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l Mediated…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per T-cells—release cytokines to call other cells to the area to help and/or ingest the infected ce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totoxic T-cells—form protein channel (hole) called perforin in cell membrane of infected cell.  It then injects granzyme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poptosis(death) of ce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umoral Immune Respon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KA, Antibody Mediated Immune Respon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d by the B-ce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-cells secrete antibodies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ibodies bind to pathogen and target them for de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ture B-cells insert antibodies into their cell membrane to form recep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umoral…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eceptor on B-cell attaches to the antig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antibody goes to wor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tibodi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it easier for phagocytic cells to eat infected or antigen bearing molecu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vering antigen-presenting cell or molecule in “envelope” and inactivating the antige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tivating complement protei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lement Protei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lement has a variety of functio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hancing phagocyt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ttracting macrophages and neutrophi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upturing cell membranes of foreign ce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using antigen-bearing agents to “clump” making it easier to get them o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tering the molecular structure of viruses so that they can’t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5 Types of Antibod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munoglobulin G (IgG)—in plasma and tissue fluids; effective against virus, bacteria, &amp; toxins; activate complement; babies get from mom through cor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sts 6 months to 1 y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munoglobulin A (IgA)—in exocrine gland secretions (sweat glands); breast milk, tears, nasal fluid, bile, urine,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5 Types Antibodies…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munoglobulin M (IgM)—develops in response to foods or bacter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munoglobulin D (IgD)—found on surfaces of B-cells; important to B-cell activ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munoglobulin E (IgE)—in exocrine secretions along w IgA; ASSOCIATED WITH ALLERGIC REA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athog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lude bacteria, viruses, fungii, one-celled protozoans, multicellular parasites (i.e. hookwor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cteria and viruses are the most common pathog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imary/Secondary Respon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umoral Response—primary response and secondary respon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mary response—the initial response that occurs with infection (by effector B-cell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ary response—the lasting immunity provided by long lasting memory B-cells (live a long time and wait to see if pathoge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acci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you get an infection, your body develops resistance the natural way.  (Naturally Acquired Immunity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vaccine gives you resistance artificially. (Artificially Acquired Immunity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is made of live/weakened or dead pathogen and creates an immune response that prevents infection without causing illne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cteria Vs. Virus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ow the diagram from the board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atomy of the Immune Syst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mary lymphatic tissues—thymus gland, bone marrow; where cells involved in the immune response grow &amp; mat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ary lymphatic tissues—two typ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capsul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encapsul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ncapsulated Tissu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 nodes—located along the pathway of lymphatic circulation; filters lymp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grab invaders that enter the lymph system by breaks in the skin or mucous membra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ncapsulated contin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leen—traps and removes aging red blood cells with the help of phagocytes; contains immune cells to capture foreign inva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6:34:27Z</dcterms:created>
  <dc:creator>kmcgrady</dc:creator>
  <dc:description/>
  <dc:language>en-US</dc:language>
  <cp:lastModifiedBy>kmcgrady</cp:lastModifiedBy>
  <dcterms:modified xsi:type="dcterms:W3CDTF">2009-02-03T21:08:17Z</dcterms:modified>
  <cp:revision>50</cp:revision>
  <dc:subject/>
  <dc:title>Chapter 14:  Lymphatic System and Immunity</dc:title>
</cp:coreProperties>
</file>